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9C8-D49B-4BA7-A0C4-D89936AE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A75-5EBE-46BF-8A4A-A8D2E69A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AF7-E6AB-42E6-9950-CD52FFE1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758-6399-4727-B34D-6B9C98A8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8CAD-6D0D-4B2E-B92A-85DF364E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0D0E-1A3B-4144-8DE6-A491CF27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416F-2017-4FBF-959B-D8584B5F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0C62-E236-40B0-8212-1778FDD2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D1FB-A89B-4B55-81A8-E9122507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440B-936A-4D13-984F-EA38B329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9E63-3799-49CF-86B0-1D28B025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872-5364-4F47-8E8E-8CF8436D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E4E5-3036-493F-9F40-C4BC0C1C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42D1-7335-4B4D-948C-9BC05284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F017-7B5E-4D00-9EA0-BEA7DFEC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433E-CADF-4135-BB38-68F19B73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BAF9-BB0A-4D8B-8BF1-B3F5D268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A6C-EC29-4325-B089-47FBD2B5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964-30EF-48E7-940B-7C60C7D4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18C-3D98-4828-A98A-A1E9FAA8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00F-E7C2-4DEE-AB6C-0EF5703F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8FB-ADBE-4C95-8790-551BF5EF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9CC-AD61-485E-8B07-9A88A019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3C5-5489-4BA4-A906-C0EC4EEC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515E-EA15-42DC-A2FE-8B82A5AB8C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881B-3B0C-4188-B2B7-2A3F5B4F62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hat is an avalanche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n avalanche is a large mass of snow and ice or of earth or rock sliding down a mountainside or over a cliff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ery year, 30 people are killed by avalanches in the United Sta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valanches are triggered by people and could be avoid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victims are skiers, snowmobilers, and outdoor adventur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valanches are not freak natural disasters, like earthquakes, that strike without war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now is made up of microscopic particles—water, air and i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these particles stick together and why they sometimes fall apart is a key to understanding why avalanches happ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read “In the Path of the Avalanche!” to find out more!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2:08:50Z</dcterms:created>
  <dc:creator>Compaq Customer </dc:creator>
  <dc:description/>
  <dc:language>en-US</dc:language>
  <cp:lastModifiedBy>Rutherford County Schools</cp:lastModifiedBy>
  <dcterms:modified xsi:type="dcterms:W3CDTF">2007-04-21T15:16:02Z</dcterms:modified>
  <cp:revision>5</cp:revision>
  <dc:subject/>
  <dc:title>Do You Feel Earth Moving?</dc:title>
</cp:coreProperties>
</file>